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045-799D-4DAC-A1DD-C50243B2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76A-4187-4EA6-A6AD-3E6CDCA7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B61-380B-4A58-B046-095F32F9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D68-3AE4-4F40-86B3-EC0AFE30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5E4-85E9-4208-9769-30D3CC67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4FF-454B-4AFC-8EB5-1A7CCDB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E823-2A55-4A5D-8E1C-66CE7F85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81E-9500-41CB-861F-91AB7F60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F60-A330-428F-A722-2F13135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56FC-5682-416F-99DC-F0275DB0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0A2B-4092-47DB-97BA-A139311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335-55A9-420D-83C7-3A40238C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9DF7-7CFC-46F4-9A67-7E0EC77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1140-122A-4DFC-8AF0-4AEC383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B3D5-5624-4308-9106-F820C44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400C-920D-4A98-8750-DC5E8E37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C8A-9237-414A-A798-65F6039F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CB2-0331-4251-95CF-BAE6E1AB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1E2-2CE6-484C-A7C7-3DF57645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FA2-F923-4422-82C2-1F094E6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83B-3B02-455E-AF22-83594CE7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484-8072-411A-8718-06A1E0E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8AA-B58B-4F36-AE4E-BEDA738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697-931C-4E58-9DE8-E698FCC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74A2-A5DC-460C-BB0F-C80F7DF659F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8712-17FF-4D3D-AB33-4D466D876FC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可编程控制器在三相异步电动机控制电路中的运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系统的开发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610920"/>
            <a:ext cx="60696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的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667640" cy="476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927160" y="6377760"/>
            <a:ext cx="35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8880" y="1557360"/>
            <a:ext cx="51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-15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参考梯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4107"/>
          <a:stretch/>
        </p:blipFill>
        <p:spPr>
          <a:xfrm>
            <a:off x="1042920" y="2133720"/>
            <a:ext cx="3673440" cy="364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6159" r="0" b="0"/>
          <a:stretch/>
        </p:blipFill>
        <p:spPr>
          <a:xfrm>
            <a:off x="4932360" y="2276640"/>
            <a:ext cx="369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2600" y="236700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，要求起动时，每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0mi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依次起动一台，每台运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后自动停机。在运行中可用停止按钮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同时停机。试设计控制程序梯形图、写出语句表，并加注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自动交替闪亮控制。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交替闪亮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，时序波形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所示。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画出电路接线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l=t2=2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计控制程序梯形图、写出语句表，并加注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tl=t2=0.5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能否简化梯形图程序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51120" y="4548240"/>
          <a:ext cx="360036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1120" y="4548240"/>
                    <a:ext cx="3600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719440" y="6399720"/>
            <a:ext cx="35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示灯交替闪亮控制时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403920"/>
            <a:ext cx="245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点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长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1763" t="0" r="0" b="0"/>
          <a:stretch/>
        </p:blipFill>
        <p:spPr>
          <a:xfrm>
            <a:off x="709560" y="1628640"/>
            <a:ext cx="319716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661000"/>
            <a:ext cx="1728720" cy="720720"/>
          </a:xfrm>
          <a:prstGeom prst="wedgeRoundRectCallout">
            <a:avLst>
              <a:gd name="adj1" fmla="val 2249"/>
              <a:gd name="adj2" fmla="val -12599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7360"/>
            <a:ext cx="1058760" cy="1700280"/>
          </a:xfrm>
          <a:prstGeom prst="wedgeRoundRectCallout">
            <a:avLst>
              <a:gd name="adj1" fmla="val 89879"/>
              <a:gd name="adj2" fmla="val -2357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916280"/>
            <a:ext cx="1419120" cy="969840"/>
          </a:xfrm>
          <a:prstGeom prst="wedgeRoundRectCallout">
            <a:avLst>
              <a:gd name="adj1" fmla="val 82884"/>
              <a:gd name="adj2" fmla="val 1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7241" b="0"/>
          <a:stretch/>
        </p:blipFill>
        <p:spPr>
          <a:xfrm>
            <a:off x="5003640" y="0"/>
            <a:ext cx="4140360" cy="34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44865" b="15267"/>
          <a:stretch/>
        </p:blipFill>
        <p:spPr>
          <a:xfrm>
            <a:off x="521964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9440" y="403920"/>
            <a:ext cx="33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转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反转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805360"/>
            <a:ext cx="1728720" cy="720720"/>
          </a:xfrm>
          <a:prstGeom prst="wedgeRoundRectCallout">
            <a:avLst>
              <a:gd name="adj1" fmla="val 8953"/>
              <a:gd name="adj2" fmla="val -12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4797360"/>
            <a:ext cx="914400" cy="1700280"/>
          </a:xfrm>
          <a:prstGeom prst="wedgeRoundRectCallout">
            <a:avLst>
              <a:gd name="adj1" fmla="val 84027"/>
              <a:gd name="adj2" fmla="val -3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349360"/>
            <a:ext cx="842760" cy="1511280"/>
          </a:xfrm>
          <a:prstGeom prst="wedgeRoundRectCallout">
            <a:avLst>
              <a:gd name="adj1" fmla="val 73541"/>
              <a:gd name="adj2" fmla="val -2069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" y="1557360"/>
            <a:ext cx="280044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162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4322880"/>
            <a:ext cx="3095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27640" y="3103560"/>
            <a:ext cx="4103640" cy="375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1104" r="24037" b="4956"/>
          <a:stretch/>
        </p:blipFill>
        <p:spPr>
          <a:xfrm>
            <a:off x="755640" y="1557360"/>
            <a:ext cx="3533760" cy="468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2160" y="403920"/>
            <a:ext cx="304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顺序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052640"/>
            <a:ext cx="1368360" cy="1055520"/>
          </a:xfrm>
          <a:prstGeom prst="wedgeRoundRectCallout">
            <a:avLst>
              <a:gd name="adj1" fmla="val 69259"/>
              <a:gd name="adj2" fmla="val 262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35560"/>
            <a:ext cx="3024000" cy="503280"/>
          </a:xfrm>
          <a:prstGeom prst="wedgeRoundRectCallout">
            <a:avLst>
              <a:gd name="adj1" fmla="val -16037"/>
              <a:gd name="adj2" fmla="val -8059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2205000"/>
            <a:ext cx="1800360" cy="719280"/>
          </a:xfrm>
          <a:prstGeom prst="wedgeRoundRectCallout">
            <a:avLst>
              <a:gd name="adj1" fmla="val -8643"/>
              <a:gd name="adj2" fmla="val 9635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59085" t="0" r="0" b="0"/>
          <a:stretch/>
        </p:blipFill>
        <p:spPr>
          <a:xfrm>
            <a:off x="5821200" y="0"/>
            <a:ext cx="3322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62120" cy="39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959280" cy="356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900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240" y="403920"/>
            <a:ext cx="34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△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936720" cy="1728720"/>
          </a:xfrm>
          <a:prstGeom prst="wedgeRoundRectCallout">
            <a:avLst>
              <a:gd name="adj1" fmla="val 77120"/>
              <a:gd name="adj2" fmla="val -1896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950080"/>
            <a:ext cx="3024360" cy="503280"/>
          </a:xfrm>
          <a:prstGeom prst="wedgeRoundRectCallout">
            <a:avLst>
              <a:gd name="adj1" fmla="val -8898"/>
              <a:gd name="adj2" fmla="val -12413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573360"/>
            <a:ext cx="1152360" cy="1008000"/>
          </a:xfrm>
          <a:prstGeom prst="wedgeRoundRectCallout">
            <a:avLst>
              <a:gd name="adj1" fmla="val 69148"/>
              <a:gd name="adj2" fmla="val -5440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57605" t="0" r="0" b="0"/>
          <a:stretch/>
        </p:blipFill>
        <p:spPr>
          <a:xfrm>
            <a:off x="5435640" y="3246480"/>
            <a:ext cx="3708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897440" cy="48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0" y="2059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5661000"/>
            <a:ext cx="1943280" cy="863640"/>
          </a:xfrm>
          <a:prstGeom prst="wedgeRoundRectCallout">
            <a:avLst>
              <a:gd name="adj1" fmla="val -82189"/>
              <a:gd name="adj2" fmla="val -3547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1727280" cy="792000"/>
          </a:xfrm>
          <a:prstGeom prst="wedgeRoundRectCallout">
            <a:avLst>
              <a:gd name="adj1" fmla="val 12592"/>
              <a:gd name="adj2" fmla="val -9629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波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43280" y="1660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波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5320" y="2927520"/>
            <a:ext cx="5256360" cy="357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91120" y="162864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87120" y="177336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皮带输送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495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各种基本逻辑指令的实际应用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编程元件定时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辅助继电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线，理解多个输出公共端子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162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皮带运输机工作原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70280"/>
          <a:ext cx="40338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70280"/>
                    <a:ext cx="40338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530000" y="5228280"/>
            <a:ext cx="26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工作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69000" y="2292480"/>
          <a:ext cx="4140000" cy="26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2292480"/>
                    <a:ext cx="4140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581080" y="521388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时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6:09:15Z</dcterms:modified>
  <cp:revision>49</cp:revision>
  <dc:subject/>
  <dc:title>模块二  S7-200系列PLC的基本结构 </dc:title>
</cp:coreProperties>
</file>